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51A-9715-4068-BF0F-3A1F1EDC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177-3EE0-4A1A-B6FE-CBEE3127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38E-B4D8-43B2-82F4-13407617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1A3-0B2B-4EE7-85FB-A9E8DB17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7AC9-83A0-48C2-B25B-E7D5AFB6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9FAD-B628-4DCE-934D-F27A9647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4415-FCD4-49D4-A16D-FF9E2B81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6BDD-308A-4065-9B35-16508894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5A80-4731-476C-A751-0216661E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93BC-DFF3-4699-85D8-A6FDE3C7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CBCC-130D-457B-9867-0815F5CC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76F-A172-447E-BD8C-46E6A03A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D7B-C015-4C38-AFA1-8083FACC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5AA-21AC-4C3B-8CEB-345A8BA5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BCC9-1B9C-47E5-9BF6-39ADE446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95B9-D3F8-48EC-ABCB-4104BA46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C755-66F2-4A07-9CB5-CFE8BD36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62C-9BDA-462B-BBFA-EE54D41B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01F-1AD8-4A76-B08B-5166529F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560-04B1-42BD-BBDD-D54F9E81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3F9-32BA-42A2-8B75-893BA6C8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5C2-3539-49F5-BFA3-D079B8F6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983-1DF6-4B4D-88B3-89EB68A2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38A-54C8-4373-B16E-7EFF6D5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6A697-B170-4CE8-80F5-5EF65F124EB1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3EED3-59FE-4499-930A-C0442B4E55F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E7A2B-B98F-4278-AB03-EBA64E319CC3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8AD38-15FC-49C5-8518-8AA140FBE12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560520"/>
            <a:ext cx="8242200" cy="2847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812-182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730080" y="660240"/>
            <a:ext cx="74455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1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howed other nations around the world that America would defend its belief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ightened nationalis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my and navy were expanded and the Bank of the United States was revived by Congress in 1816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4417920" y="4186080"/>
            <a:ext cx="32781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7200" y="1047600"/>
            <a:ext cx="81154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hat are some examples of nationalism following the War of 1812?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riff of 18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nry Cl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ree main par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rong banking system: easy &amp; abundant credi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tective tariff: eastern manufacturing flouri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twork of roads &amp; can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ie Canal- completed by New York in 182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d not receive federal mone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5" descr="288px-Lockport_bartlett_color_crop"/>
          <p:cNvPicPr/>
          <p:nvPr/>
        </p:nvPicPr>
        <p:blipFill>
          <a:blip r:embed="rId3"/>
          <a:stretch/>
        </p:blipFill>
        <p:spPr>
          <a:xfrm>
            <a:off x="6227640" y="4902120"/>
            <a:ext cx="24591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Strict Constructionis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Interpreting the constitution literally, exactly as 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s: Jefferson, Madis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Loose Constructionis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a broad interpretation of the constit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s: Federalists (Hamilton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ames Monroe- elected president in 18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st of founding fath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st of Virginia dynas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a of Good Feeling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 political parties getting alo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snomer; issues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ariff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ank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nal improvements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tionalis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laver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Picture 5" descr="220px-Jm5"/>
          <p:cNvPicPr/>
          <p:nvPr/>
        </p:nvPicPr>
        <p:blipFill>
          <a:blip r:embed="rId3"/>
          <a:stretch/>
        </p:blipFill>
        <p:spPr>
          <a:xfrm>
            <a:off x="7048440" y="4334040"/>
            <a:ext cx="20955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rst national financial panic since Washing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flation, depression, bankruptcies, bank fail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speculation of frontier lan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ffec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nancial paralys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nk of the US forced western banks to clos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eclosed mortgages on far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or classes in severe troubl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tween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791 and 1819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states from the West had joined the United States. 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ternately as free/slav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ople moved b/c of cheap la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he 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Land Act of 1820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uthorized a buyer to purchase 80 acres at a minimum of $1.25 an acre. 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5" descr="banner_westwardexpansion"/>
          <p:cNvPicPr/>
          <p:nvPr/>
        </p:nvPicPr>
        <p:blipFill>
          <a:blip r:embed="rId3"/>
          <a:stretch/>
        </p:blipFill>
        <p:spPr>
          <a:xfrm>
            <a:off x="3332160" y="5394240"/>
            <a:ext cx="35323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allmadge Amendm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called for no more slaves to be brought into Missouri &amp; gradual emancipation of children born to slave par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ter defeated by the slave states in Congres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5" descr="150px-James_Tallmadge_portrait"/>
          <p:cNvPicPr/>
          <p:nvPr/>
        </p:nvPicPr>
        <p:blipFill>
          <a:blip r:embed="rId3"/>
          <a:stretch/>
        </p:blipFill>
        <p:spPr>
          <a:xfrm>
            <a:off x="3305160" y="3611520"/>
            <a:ext cx="23446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my ill-trained &amp; ill-disciplin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fensive strategy against Canad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ed to invade from Niagara, Detroit and Lake Champlai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ish &amp; Canadians were energetic &amp; powerfu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mericans were more successful attacking by se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liver Hazard Perry- captured a British fleet in Lake Eri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onstitutio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enry Cla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mit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issouri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as a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 slave stat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820. 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ain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 to be admitted as a separate, 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ree st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2 slave states &amp; 12 free stat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he 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Missouri Compromi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by Congress forbade slavery in the remaining territories in the Louisiana Territory north of the line of 36° 30', except for Missour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ief Justic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hens 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vs. 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Virginia</a:t>
            </a: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1821)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hens appealed to Supreme Court for being found guilty of illegally selling lottery tickets by the state of Virginia.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Virginia w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 (conviction was withheld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Fletcher 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vs. 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Peck 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(1810)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 Georgia legislature granted 35 million acres to private speculators; the next legislature cancelled the bribery-induced transaction. 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t state give acres to private speculators (a contract and constitutional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tected property rights against popular pressur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5" descr="220px-John_Marshall_by_Henry_Inman,_1832"/>
          <p:cNvPicPr/>
          <p:nvPr/>
        </p:nvPicPr>
        <p:blipFill>
          <a:blip r:embed="rId3"/>
          <a:stretch/>
        </p:blipFill>
        <p:spPr>
          <a:xfrm>
            <a:off x="7361280" y="0"/>
            <a:ext cx="17827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John Quincy Adam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secretary of state under Monro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reaty of 1818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permitted Americans to share Newfoundland fisheries w/ Canadi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-year joint occupation of Oregon Country w/o  a surrender of rights or claims of America or Britai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2671920" y="4444920"/>
            <a:ext cx="356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volutions in South Amer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ain forced to take many of its troops out of Florid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neral Andrew Jackson went to Florida to punish Indi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16120" indent="-2653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ptured St. Marks and Pensacola  (2 most important Spanish posts in the area)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he Florida Purchase Treaty of 1819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Spain ceded Florida, as well as Spanish claims to Oregon, in exchange for America's abandonment of claims to Texa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poleon falls from power in 1815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uropeans wanted to completely eliminate democrac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George Cann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British foreign secret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int declaration renouncing any interest in acquiring Latin American territor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rn European dictators to keep their hands off Latin American republic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retary Adams thought British feared that Americans would seize Spanish territory in the Americas; jeopardizing Britain's possessions in the Caribbea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Monroe Doctrine (1823)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stern warning to the European power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basic features: non-colonization &amp; noninterven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6661080" y="4081320"/>
            <a:ext cx="248292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nroe stated that the era of colonization in the Americas was o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nroe also warned against foreign interven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ned Britain to stay out of the Western Hemisphere &amp; stated that the United States would not intervene in foreign wa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uropean powers were offended by Monroe Doctri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sident Monroe was more concerned w/ security of America when he issued the Monroe Doctri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rived off nationalis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6080040" y="3505320"/>
            <a:ext cx="22543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attle of the Tham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General Harrison's army overtook British at Detroit and Fort Mald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Thomas Macdonough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naval officer who forced the invading British army near Plattsburgh to retreat; saved upper New York from conque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2451240" y="3819600"/>
            <a:ext cx="38448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ish set fire to White House &amp; Capito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ancis Scott K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ained American watching bombardment of Fort McHenry from British shi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r Spangled Banner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457200" y="3963960"/>
            <a:ext cx="3932280" cy="2651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>
            <a:off x="5888160" y="3479760"/>
            <a:ext cx="23652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h, say can you see by the dawn's early ligh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so proudly we hailed at the twilight's last gleaming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ose broad stripes and bright stars thru the perilous fight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'er the ramparts we watched were so gallantly streaming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d the rocket's red glare, the bombs bursting in air, Gave proof through the night that our flag was still ther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h, say does that star-spangled banner yet wav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'er the land of the free and the home of the brav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8,000 British veterans vs. 7,000 untrained men under Andrew Jack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itish blunder- frontal assault on entrenched American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uge victory for Jack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,000 British died very quick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 actually ended two weeks before the batt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ackson emerges as a national her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sar Alexander I of Russia calls for peace between Americans &amp; British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hent, Belgi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mist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quered territory restor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mention of Indians, Orders in Council, Impressment, et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mericans did not manage to defeat Briti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t One Inch of Territory Lost or Gained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England remained a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spered during conflic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osed secession from The Union or at least a separate peace with Britai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rtford Convent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Hartford resolutions marked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death of the Federalist party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assachusetts, Connecticut, and Rhode Island met for a secret meeting to discuss their disgust of the wa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Hartford Convention's final report demanded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nancial assistance from Washington to compensate for lost trade from embargo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onstitutional amendments requiring a 2/3 vote in Congress before an embargo could be imposed, new states admitted, or war declared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abolition of slaver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at a President could only serve 1 term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abolition of the 3/5 claus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prohibition of the election of 2 successive Presidents from the same stat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20:08:00Z</dcterms:created>
  <dc:creator>Emily Johnson</dc:creator>
  <dc:description/>
  <dc:language>en-US</dc:language>
  <cp:lastModifiedBy>emily.johnson</cp:lastModifiedBy>
  <dcterms:modified xsi:type="dcterms:W3CDTF">2012-10-29T12:18:15Z</dcterms:modified>
  <cp:revision>8</cp:revision>
  <dc:subject/>
  <dc:title>Chapter 12: The Second War for Independence &amp; the Upsurge of Nationalism</dc:title>
</cp:coreProperties>
</file>